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F35-D1B5-413F-AEF5-AF60E958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2D6-0E1A-42ED-8266-B52E7FF6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C161E-EA04-4E08-B80E-3CF88FEC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ADA32-CD0C-4B63-A08A-A2705E97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523F5-125E-4611-9E1D-D2E8FD6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1164C-339A-4D49-A326-17EC73EC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D39A5-C677-4476-8AFF-A22ABE48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46AFE-284E-4978-92FE-8D70293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8A0E1-FE98-4065-81FF-88A5075A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A5492-3A16-431F-BBC9-1709107E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AB6A1-DCE8-46E4-B977-3E3B2132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47A48-FE6B-496C-8386-2558D241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314-83D6-40D7-BF40-902D8A07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8E723-70BB-4FB6-836B-29DEA373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8DEC7-E662-46ED-8E4C-B2EBF5F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9C8F7-25C4-4453-91F4-662B09B4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D7653-16D4-4DDD-B083-6FBE3F0F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1C981-06C1-4164-8079-630C7035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326BD-1FB0-49B0-8BDF-6BD4BEF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CD71B-5298-463E-8A7A-92C7EFD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321E1-F69F-48BE-8225-49A99D6E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D3633-5670-4BF5-A6B4-9314A015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E04DE-C6B3-4B57-8019-0C142192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506-01F8-43DB-8152-184610BB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2E746-ACAA-4CDB-B1AD-CA728CC9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EA7FE-3E98-4E9B-85FA-1BBD7D25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05104-2235-4315-96C3-F5C407D5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6604A-C3AA-419B-A65D-CD7929FC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359DC-8680-4D45-B7B3-C85EBE8A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5808D-277D-427E-8884-2BE651DF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7F39D-4D53-40CA-AD4D-24403A2D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6C156-5AC0-4C54-B7DE-084B1AB8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B8F47-19B1-4B86-BE29-41DA81A5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B9F74-AAD9-4CF6-9AA1-8D0E3D6A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87ED-A313-4D1C-A1FD-56F38CDE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399F-7C11-4189-B080-7E2E300B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E1FAB-506D-4F96-8F79-7D44317D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D21C7-1630-40F2-A375-0CCEEDE9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681BE-57B7-4F0C-9D3F-F028E439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F9E3B-A2D8-4DB7-88C4-6B9B95D6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21F09-08E5-4A6A-96E5-9A4E75D0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AF27C-D301-4B88-8E9F-F43E5B4F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6FBCC-8400-4816-AE00-27E95B49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1039F-4A2B-4AAF-BBD9-5A50A2F5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C12A0-95C9-4ED4-9C5F-7B29C3BD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0DD8-3A07-403A-BA0A-E1B61AC5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49264-299E-4B1B-87E5-B900EB4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3D462-F964-4D90-BBD1-1CAB970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8AB4F-E3BB-46CD-A309-48D01BB9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78D40-0915-4E72-A4D1-0287F1EF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58F74-5118-448F-A94E-BA7D97F8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6A400-46E2-4E63-8B8D-2EF3C4F7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840FF-4D0A-47FC-9C53-5CED3275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16863-51B3-4DA2-AA2C-9D04920B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8365B-E21C-4459-A8CD-222955CD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B1476-A751-416C-8D5B-3BBACD90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76B6-729A-4FF6-846B-E3ED8E14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53E4F-8113-4558-B402-3730BCF0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59FC4-582F-4FF4-9C8C-4E3B8479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B6516-1542-477E-8369-A7AF17B8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8AD4E-1370-40FA-9871-503A437C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FE489-AE88-4A1A-A84E-630E7B9F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BAD25-F494-4DC0-837E-CBB5ECEF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2294A-C13C-4D5B-A663-69ABD489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49E75-77D1-47EF-BD93-33AE0C01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BAB2F-DBDE-4F13-8CC8-71409CF5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1CCB3-A325-4E5E-9033-4ADF0AF2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94D1-7E63-43B2-9C9B-F93FF31D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2FCE9-D814-4B59-8656-5EA09193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BCCB5-95D6-4820-AD8E-FA687830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141E5-14B0-4D36-8532-8B0A8234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95B6D-E98A-4D3E-830B-F4A9B141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B7CBA-B1C4-4331-A753-595C6C1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047BF-5250-4EED-B14E-5ABDC11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891A0-CA6F-4B69-9813-9FFE9AD0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BDE02-653D-4B2A-A0FA-BBDCB9C2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BABC4-86EE-4EF4-85B7-D893D08D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A2CAB-E326-4397-860C-588AFD3B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B5CA-B78B-44D9-A378-4D879888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80742-3F5F-4E9E-A36C-887992D0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4497D-0199-4B6C-ADDB-F7CEEEDB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CED27-CDF7-4D28-B334-E76CC323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47C0E-09B3-4D21-A3D5-ECC8648D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BD97C-A389-4585-AEE9-A00D7F10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B43D4-E881-481E-B2CE-58CA8CE4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C715B-3F2C-4C1B-950A-9BA80A00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F2F321-9D74-415C-A35D-9401A41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BC49E-D5AF-4AFA-A829-95EDB706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8BF5D5-6A50-4095-8516-7B2A4917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A278-063F-491A-9FB6-BD5E4927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17224-440F-48F7-B75E-F218E32E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B7A9-D367-4AE1-BB40-C24502AB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6F5-44CF-4A79-83C6-A51A6C97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BF40-744F-469F-9E96-4A7B1BE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B09F-1048-451D-9593-A0F6DEF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746A-E680-4B25-9FC6-FEE4333C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3FAD-EDA9-42E5-B600-833543CF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5E6E-95B7-4ECE-AF93-04990012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9C156-583D-40D3-A358-23038C76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DB33-9AFB-4508-9A47-A372F6B6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CDB3-AD1E-480D-9146-DB15BBB9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9409-5258-4A53-8096-578AF1A8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098B-2FC4-4B17-A4AD-22BC06CD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4C1-A29F-4F79-A65E-EB943B6A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066B-209E-435A-8760-1751ED75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81B1-8684-41E5-B67D-9F20E7A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19D6-854B-4AC3-8236-BE007681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C65E-7135-4953-A67B-99070B9A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01F0-8F78-4F01-8D66-4C3F1570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DC83-5B89-4BD7-A5A7-9EF3CA9B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1929-2F8B-4C75-8A3E-A9DE8D58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0F2C-8E24-4B96-9CE9-9168D159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D66A-7000-4590-A141-4BDFA98A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C8B1-4B4D-433C-990D-D0E0E6C3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494-A2EA-447E-9902-F2B448D4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91A9B-7DE9-4172-93D1-EBA8C38E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B4B1-D556-456E-8322-1A8CB4CD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849F-4BC5-4184-8E2C-681FB28F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F85C-1342-4332-BDE9-3F7F8129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C1018-756A-4D59-BD90-A1647B12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D1E6-FC31-4F0C-9679-2AB45D6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00CEB-6807-4D7A-BE5F-DAE7C02B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5FB0-9F21-403C-9750-5105DD51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74027-24BC-4204-A6F4-71E85C8B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5847-2BCA-43BF-8A3C-7EED8DA4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3D8-B33B-4499-B017-C0B77392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6D710-D39B-441B-9BB1-27DE1542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E478C-8E7B-4AB4-8241-27E3711D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4A87B-A901-4E7A-8391-37C013E2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C4C36-28D9-4E44-A75E-4771BA31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99B2E-93B2-46C4-BE09-3F87C508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438C-C0F2-4B04-8886-8AD1B92C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0F3D-7616-445B-B973-95793AA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8E06-F788-4459-A041-6565D9BF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01C87-998C-416C-81D5-ABD9B601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69FA1-BE41-4CFA-99B5-77F70340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4BE-7330-47F2-991D-F1F5B164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F2440-7B48-407A-991F-F2B3DABB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5D42-3601-4298-A26B-7B3C04B3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FE96B-9E51-4CEC-AF61-09C59F94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60692-B2D3-4DCF-9966-19748FD7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A1A44-99A4-4DBB-A970-06BFCE0F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15928-DE99-406C-A86F-B97FA3C5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D3490-AD9D-48C2-9CB5-D120FFA1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AB45B-1A5A-4784-A81D-59466DA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DD70C-15B2-4D49-824F-874674A7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D91C-1938-4E86-9EE7-52A36431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8D6-D8B7-40D0-8D4D-DC9A7B6F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EEA5A-498C-479B-BB34-EC71C5C9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4364F-84EB-491B-9214-B6C25B19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8EC85-67AC-405C-9BCE-91D300D2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D1688-C7E1-4E3A-BF8D-73CA9CF8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8F8DA-F90B-4ABA-936B-692E3545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5B897-0CFA-4AC2-96BB-E76B5248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7F2B-3548-40D3-88BE-4D382EF4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2FFCF-CB00-4167-89ED-F8A97F19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87BA-3B4A-4A62-9FAC-9D279192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FC416-C7F0-4A75-99CE-EF4C6B23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06E-8C55-4310-B044-36BC91C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05F84-ADB4-4094-BE0B-5B429AF1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4215C-A58C-4E6E-AC4E-8044A2A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F20F3-FCEC-4DE0-9326-6132C74A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5CF84-1087-4BF3-8CA7-B9A1BED2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0F4A-6922-4D8E-8B2D-FD16B6C7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81FD0-7F85-4BBC-A203-BCA106B9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4A8AD-4EB9-45BE-974D-2A8E028F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B898F-863C-4385-8E98-0EBD685B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BF7AF-2FED-4C1B-AE5B-EBF56DD8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9930F-BCFA-42F9-BFA1-F8366D16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265-7DD6-45AA-9FA9-0BA6E5DA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770B4-C6C8-4F47-9C58-656C2A4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8914E-290C-47A8-B3E0-20DF1BF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D4EF1-BA9D-406B-B9BC-6D0147FB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44CF6-EC4F-4EE5-B0EA-22D373C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5070-67DF-47B1-A5A5-32BD87E1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4DEE3-594D-44BF-9F85-C87E02A7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1620E-6355-414E-8EE9-E4CA2A16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1B0EA-902B-4866-8531-70DDEA4F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6401E-79DF-4E29-8DE5-B02A296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8CECC-FFE8-4B2A-B5E8-E3B82934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F493-7988-4B1F-B6A9-0785B40E6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6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579F-3A8C-4C45-9ACC-08154C10E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2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C5E0-2DF9-4ED1-9F93-7115BED6A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7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8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9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1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3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57BC-84A3-4DDD-9108-D31F8EFFD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B0F-A491-40D0-8A25-C8E926269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8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2ED6-4259-4FB0-B54E-58B43C29C0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3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PlaceHolder 1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9BB0-5D53-43DA-AB15-A89D661539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D172-1334-40DB-BCFE-517523D5E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DDD3-D1F9-4027-8C35-85677258D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50CA-178F-46C9-9AF3-60C7CF9930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28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03D5-6511-4E25-8110-47BFC4A58B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75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714E-D909-4E1E-9938-7185831CF2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006E-D553-49FE-AA6F-DAC2DA843C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1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2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6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C78A-61D7-471F-8510-18258128A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E81B-80B3-4DEE-93BF-6BC5D9A44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4;&#1087;&#1077;&#1088;&#1072;&#1090;&#1091;&#1088;&#1072;" TargetMode="External"/><Relationship Id="rId2" Type="http://schemas.openxmlformats.org/officeDocument/2006/relationships/hyperlink" Target="http://ru.wikipedia.org/wiki/&#1055;&#1088;&#1086;&#1094;&#1077;&#1085;&#1090;" TargetMode="External"/><Relationship Id="rId3" Type="http://schemas.openxmlformats.org/officeDocument/2006/relationships/hyperlink" Target="http://ru.wikipedia.org/wiki/&#1055;&#1072;&#1088;&#1094;&#1080;&#1072;&#1083;&#1100;&#1085;&#1086;&#1077;_&#1076;&#1072;&#1074;&#1083;&#1077;&#1085;&#1080;&#1077;" TargetMode="External"/><Relationship Id="rId4" Type="http://schemas.openxmlformats.org/officeDocument/2006/relationships/hyperlink" Target="http://ru.wikipedia.org/wiki/&#1042;&#1086;&#1076;&#1072;" TargetMode="External"/><Relationship Id="rId5" Type="http://schemas.openxmlformats.org/officeDocument/2006/relationships/hyperlink" Target="http://ru.wikipedia.org/wiki/&#1053;&#1072;&#1089;&#1099;&#1097;&#1077;&#1085;&#1085;&#1099;&#1081;_&#1087;&#1072;&#1088;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Чистота и загрязнение нашей планет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аков 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31 г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КГ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грязнение окружающей сре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277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1481400"/>
                <a:gridCol w="3785400"/>
                <a:gridCol w="2962800"/>
              </a:tblGrid>
              <a:tr h="433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сновные источники загряз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сновные вредные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тмосф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Промышленность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Транспорт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Тепловые электроста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ксиды углерода, серы, азота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рганические соединения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Промышленная п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идросф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Сточные воды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Утечки нефти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Авто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Тяжелые металлы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Нефть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Нефте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итосф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Отходы промышленности и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Сельского хозяйства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Избыточное использование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Удобр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Пластмассы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Резина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afe1ff"/>
                          </a:solidFill>
                          <a:latin typeface="Arial"/>
                          <a:ea typeface="Times New Roman"/>
                        </a:rPr>
                        <a:t>Тяжелые мет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новные типы загрязн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НЫЕ ТИПЫ ЗАГРЯЗНЕНИЯ: Физическо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тепловое, шумовое, электромагнитное, световое, радиоактивно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имическо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тяжелые металлы, пестициды, пластмассы и др. химические ве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иологическо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биогенное, микробиологическое, генетическо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формационно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информационный шум, ложная информация, факторы беспокой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6600" spc="-1" strike="noStrike">
                <a:solidFill>
                  <a:srgbClr val="b7e7ff"/>
                </a:solidFill>
                <a:latin typeface="Monotype Corsiva"/>
              </a:rPr>
              <a:t>Взаимосвязь загрязнения с окружающей средой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Важный экологический показатель среды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это относительная влажность воздух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Относительная влажность воздуха- это..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шение массовой доли водяного пара в воздухе к максимально возможной при данной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температур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змеряется в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процентах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и определяется по формуле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где:           —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носительная влажность рассматриваемой смеси (воздуха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—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парциальное давление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паров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воды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в смес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—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вновесное давление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насыщенного пара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" descr=" RH = {p_{(H_2O)} \over p^*_{(H_2O)}} \times 100% "/>
          <p:cNvPicPr/>
          <p:nvPr/>
        </p:nvPicPr>
        <p:blipFill>
          <a:blip r:embed="rId6"/>
          <a:stretch/>
        </p:blipFill>
        <p:spPr>
          <a:xfrm>
            <a:off x="4427640" y="2266920"/>
            <a:ext cx="1752480" cy="40644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 RH_{\,_\,} "/>
          <p:cNvPicPr/>
          <p:nvPr/>
        </p:nvPicPr>
        <p:blipFill>
          <a:blip r:embed="rId7"/>
          <a:stretch/>
        </p:blipFill>
        <p:spPr>
          <a:xfrm>
            <a:off x="1258920" y="4076640"/>
            <a:ext cx="314280" cy="11448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 {p_{(H_2O)}} "/>
          <p:cNvPicPr/>
          <p:nvPr/>
        </p:nvPicPr>
        <p:blipFill>
          <a:blip r:embed="rId8"/>
          <a:stretch/>
        </p:blipFill>
        <p:spPr>
          <a:xfrm>
            <a:off x="826920" y="4581360"/>
            <a:ext cx="571680" cy="14292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 {p^*_{(H_2O)}} "/>
          <p:cNvPicPr/>
          <p:nvPr/>
        </p:nvPicPr>
        <p:blipFill>
          <a:blip r:embed="rId9"/>
          <a:stretch/>
        </p:blipFill>
        <p:spPr>
          <a:xfrm>
            <a:off x="826920" y="4941720"/>
            <a:ext cx="486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БСОЛЮТНАЯ ВЛАЖНОСТЬ- ЭТО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личество влаги (в граммах), содержащейся в одном кубическом метре воздуха. Из-за малой величины обычно измеряют в г/м3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едства и методы контро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определения влажности воздуха используются приборы, которые называются психрометрами и гигрометрами. Психрометр Августа состоит из двух термометров - сухого и влажного. Влажный термометр показывает температуру ниже, чем сухой, т.к. его резервуар обмотан тканью, смоченной в воде, которая, испаряясь, охлаждает его. Интенсивность испарения зависит от относительной влажности воздуха. По показаниям сухого и влажного термометров находят относительную влажность воздуха по психрометрическим таблицам. В последнее время стали широко применяться интегральные датчики влажности (как правило, с выходом по напряжению), основанные на свойстве некоторых полимеров изменять свои электрические характеристики (такие, как диэлектрическая проницаемость среды) под действием содержащихся в воздухе паров воды. Для поверки приборов для измерения влажностей применяют специальные установки - гигроста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Monotype Corsiva"/>
              </a:rPr>
              <a:t>Охрана окружающей среды</a:t>
            </a:r>
            <a:r>
              <a:rPr b="0" lang="ru-RU" sz="2800" spc="-1" strike="noStrike">
                <a:solidFill>
                  <a:srgbClr val="cc3399"/>
                </a:solidFill>
                <a:latin typeface="Arial Black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икладная экологи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— комплекс мер, предназначенных для ограничения отрицательного влияния человеческой деятельности на природу. В западных странах часто используется также понятие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нвайронментологи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Environmental science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), которое в отечественной литературе выражается термином «наука об охране окружающей среды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53:23Z</dcterms:created>
  <dc:creator>User</dc:creator>
  <dc:description/>
  <dc:language>en-US</dc:language>
  <cp:lastModifiedBy>User</cp:lastModifiedBy>
  <dcterms:modified xsi:type="dcterms:W3CDTF">2009-11-21T14:20:49Z</dcterms:modified>
  <cp:revision>2</cp:revision>
  <dc:subject/>
  <dc:title>Чистота нашей планеты</dc:title>
</cp:coreProperties>
</file>